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0FC-050B-40D9-B98F-C0AA306B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A81-1D5C-4560-B53E-E794662E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290-02A8-41CC-B6F9-1A08DCD5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270-8D49-4FA9-87F5-A09B8C35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D39-79E6-482A-8AF0-B2BA3B40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EB4-5DBE-4086-AC24-AE1D79B1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6B6-F19B-4FF7-B37B-1E000F8C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83E-E5A6-4B6F-B772-E3447128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BFB-E283-42CF-92FC-7E69E289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9BC-4374-4014-86EC-A419694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15D-607B-4DD6-A0DA-20C3FC1F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509-CFA1-4BE6-A476-41E34B4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7333-447A-4F96-BDA9-FB0CE29CB9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28640" y="143280"/>
            <a:ext cx="6678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四年　書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7720" y="685800"/>
            <a:ext cx="2069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すな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むすびに気をつけて書こ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1375200" y="667440"/>
            <a:ext cx="667800" cy="5086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気をつけるポイン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2412000" y="1371600"/>
            <a:ext cx="1155240" cy="289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書き方のお手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ni_hoshi2" descr=""/>
          <p:cNvPicPr/>
          <p:nvPr/>
        </p:nvPicPr>
        <p:blipFill>
          <a:blip r:embed="rId3"/>
          <a:stretch/>
        </p:blipFill>
        <p:spPr>
          <a:xfrm>
            <a:off x="3124080" y="1143000"/>
            <a:ext cx="125640" cy="125280"/>
          </a:xfrm>
          <a:prstGeom prst="rect">
            <a:avLst/>
          </a:prstGeom>
          <a:ln w="0">
            <a:noFill/>
          </a:ln>
        </p:spPr>
      </p:pic>
      <p:pic>
        <p:nvPicPr>
          <p:cNvPr id="46" name="ani_hoshi2" descr=""/>
          <p:cNvPicPr/>
          <p:nvPr/>
        </p:nvPicPr>
        <p:blipFill>
          <a:blip r:embed="rId4"/>
          <a:stretch/>
        </p:blipFill>
        <p:spPr>
          <a:xfrm>
            <a:off x="1676520" y="1143000"/>
            <a:ext cx="12528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37480" y="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書き方のお手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7696080" y="152280"/>
            <a:ext cx="11588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富士ポップ"/>
              </a:rPr>
              <a:t>もど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78800" y="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気をつけるポイン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696080" y="152280"/>
            <a:ext cx="11588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富士ポップ"/>
              </a:rPr>
              <a:t>もど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05:02:20Z</dcterms:created>
  <dc:creator>Granada</dc:creator>
  <dc:description/>
  <dc:language>en-US</dc:language>
  <cp:lastModifiedBy>Yoshiharu</cp:lastModifiedBy>
  <dcterms:modified xsi:type="dcterms:W3CDTF">2005-11-07T04:33:17Z</dcterms:modified>
  <cp:revision>9</cp:revision>
  <dc:subject/>
  <dc:title>PowerPoint プレゼンテーション</dc:title>
</cp:coreProperties>
</file>